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C9A-232B-4265-8379-8CA73B18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057-4355-4E1A-A29F-7F98DDB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1B7-9F2A-4DAD-A722-DE6AC446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607-2236-4847-AA1D-B51F5D71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406-569C-40B9-93F7-687D649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5D5-35EF-44D3-833D-2BA851B6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64A-4F2E-4D66-9235-3C9A1ED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BE5-9BE4-4016-9A7A-7A8E4904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21B-ED82-4671-8FEA-279477D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51C-0228-4487-91D9-4FC4501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F4B-86F9-4F82-B046-C127752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276-091A-40D8-9CD6-ABB6C71B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D27-1BFE-4F1A-B7AB-FAFE6D8C8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5 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15238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versible physical changes, they are NOT changes from one substance to a new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057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changes take place when a substance changes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state of mat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 phas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lting = solid gains energy (temp), caus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to vib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0574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point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causes molecules to overco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actions and move away (bonds brea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743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elting is complete when all molecules have gain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ough energy to move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reezing  = opposite of melting, but at same temp (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733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lecules get drawn into orderly arrangement because attractions of molecules take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Vaporization = liquid to gas phas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48006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bsorbs energy in order to chang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81480"/>
            <a:ext cx="6553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thermic process = absorbs energy from another object: example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 = system releases energy to 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s EX: free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447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types of vapor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752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vaporation:  the process by which the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liquid to a gas at temps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8195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lower levels in a fish ta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oiling: vaporization which takes place when boiling substance changes to a gas (vap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39625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pot of water left on the stove to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…no mo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ondensation: phase change in which a subst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a GAS to a VAPOR or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447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1828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mirror in the bathroom appears cloudy after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 shower (water condenses on the mi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90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glass of ice tea after a few minutes appe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w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ublimation: phase change in which a substance chan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solid to a gas or vapor without changing 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419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ndotherm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876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dry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Deposition: gas vapor changes directly to a solid with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ging to a 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752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othermic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096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verse of 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66688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: the temperature of a substance does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uring a 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Boiling water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4:22:24Z</dcterms:created>
  <dc:creator>Farwell Area Schools</dc:creator>
  <dc:description/>
  <dc:language>en-US</dc:language>
  <cp:lastModifiedBy>Farwell Area Schools</cp:lastModifiedBy>
  <dcterms:modified xsi:type="dcterms:W3CDTF">2009-01-26T19:53:22Z</dcterms:modified>
  <cp:revision>8</cp:revision>
  <dc:subject/>
  <dc:title>Note guide 3-5 day 1</dc:title>
</cp:coreProperties>
</file>